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.wmf" ContentType="image/x-wmf"/>
  <Override PartName="/ppt/media/image22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9.jpeg" ContentType="image/jpeg"/>
  <Override PartName="/ppt/media/image40.png" ContentType="image/png"/>
  <Override PartName="/ppt/media/image23.png" ContentType="image/png"/>
  <Override PartName="/ppt/media/image13.jpeg" ContentType="image/jpeg"/>
  <Override PartName="/ppt/media/image30.wmf" ContentType="image/x-wmf"/>
  <Override PartName="/ppt/media/image10.png" ContentType="image/png"/>
  <Override PartName="/ppt/media/image33.wmf" ContentType="image/x-wmf"/>
  <Override PartName="/ppt/media/image34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5.png" ContentType="image/png"/>
  <Override PartName="/ppt/media/image28.png" ContentType="image/png"/>
  <Override PartName="/ppt/media/image31.wmf" ContentType="image/x-wmf"/>
  <Override PartName="/ppt/media/image4.wmf" ContentType="image/x-wmf"/>
  <Override PartName="/ppt/media/image27.wmf" ContentType="image/x-wmf"/>
  <Override PartName="/ppt/media/image3.png" ContentType="image/png"/>
  <Override PartName="/ppt/media/image26.png" ContentType="image/png"/>
  <Override PartName="/ppt/media/image25.wmf" ContentType="image/x-wmf"/>
  <Override PartName="/ppt/media/image1.png" ContentType="image/png"/>
  <Override PartName="/ppt/media/image11.jpeg" ContentType="image/jpe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3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A8E1-6786-4089-BA16-69A0639E0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47DE-395E-4849-90E8-A1C7D683A1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2538-705B-4AC1-8AD5-228B27E674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637B-55C0-4DAA-86FC-1763FCC847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37B0-B7A7-48EF-A1F1-FC432FB20D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A75B-C6ED-4D5F-B481-AB2BAD72A5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0B77-AB70-4807-B30F-50BADDC2A2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1833-215D-47E7-BC90-B5EC28D4D0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566E-0217-414B-8DB9-1D0FA89B90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C4E2-401B-425E-8FD5-18CF7E6164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9498-1E72-4BB4-A8C3-3D757C9E2A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7CBF-5966-4D96-B0D9-4A7F814F98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AEBD-B3E0-4EF5-A9F0-30DEE60565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0DDC-1716-44F6-A4C9-558087FEB3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D516-78C4-4D02-B472-CDD8A1B8A2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411E-4A41-4607-A2FD-CC29E71883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B8ED-4A99-4F76-994F-BEB94C1B39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FF1A-9C09-4EA9-A2D1-83802A2E3A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4A15-8828-499C-880E-287A4B90CA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70A3-855D-40FA-A843-6DDABE4D05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3546-2AEA-4A67-A6A9-41E87442C1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B41F-DD0E-4ABD-9A8D-3901C0C1BC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4105-A53B-438B-ADF6-607B738838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464A-EAB1-43F2-967D-2CA0B18405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34BD-6D62-4119-9CF2-75DA0B1565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43F2-B5AA-46C1-9E4D-F277F0A659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0452-24AA-4D89-A705-9C08F12635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83FE-D3A9-437E-85CE-5563C570C7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FE81-FB1E-4D7D-92D6-E27B4834DA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94A9-5AD2-48F5-8DFA-6B87AC37C1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459F-EBEF-4E37-98F2-3A7F9477DD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42A4-DF01-42E7-BF49-460983FBD3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308D-9574-4172-B6E4-6FFCAA73FD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C037-1FDF-4B91-BA3C-784D31C07C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3943-9D3E-4EDE-B611-4D19E8E937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3567-C957-40EE-AF31-E7AB4D5A24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C20C-26F9-45CB-AB42-3A470908E0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06AE-6742-4286-A490-A82157352D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B5E3-5D08-4ABC-940E-B74CAB7F92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D1BF-0E80-46F4-9AFB-089A75935F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A380-3B67-491F-81E6-D57F25A0D2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2A02-4998-46CF-B29D-0CC3F406AA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197B-5580-4A44-A518-6D83119F47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4631-6FB7-4727-85D5-38B0549B86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C392-126E-4E36-9EFB-3427F4D894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F2DB-2E4C-468D-B778-CED097D6A0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F9CD-F59B-4284-AFBD-841D3702BA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F514-72E2-4FDA-9E5E-3FD5E400F9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2FE4-FFAB-4DD2-98DB-5CC0BD0F51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1D2B-9644-4F38-81C3-5829EEE82F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0D02-E579-4170-B495-FAEAC0D9F9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1BFF-CE0F-479B-8BEF-6792E633A1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A89E-89AB-44BC-B3E2-EE40E13EEB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2E50-098C-4E95-8AC3-692E9C190F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6CCF-94CB-421D-BFF3-445C095884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80BF-761F-4D3F-AF6D-3CB7591AEE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0142-32D6-4F45-A621-9CFE2A4092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A764-AD08-429A-BC08-66689DC1B0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1309-6508-405F-9AD3-F29D8FA14F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0CF9-9915-4468-85CE-176CF6E4C5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6D4D-8ECD-4665-A504-A074738AB6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C26A-9A2A-4DE2-A1D8-A7F474D1D5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3070-93EE-4B76-ABFC-7692A25041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ADC9-17A0-44B2-A846-ADA6E6D1E5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610F-AD2A-483E-BF1B-71878D787F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773D-8D2D-4E23-AEBE-A5C49EF002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A6A3-3FF6-447C-BD23-CBF505F86B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7747-8E4E-444A-B58D-77A0BADDD2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FA95-CDF2-4911-92A9-0A5BAD8954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BE37-612A-4DF6-A93D-5726AADD38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6EF7-1EC0-4D16-BD4B-3DB7E1CBB2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E877-FF09-4FA5-A62E-A21D91537E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A386-5B3A-4440-B76C-B45CE55F58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AD2F-311D-45AE-8D8A-9989A8CEB8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E8C8-5732-4AA6-A2BB-C5161FE1A6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9E9C-95E3-4809-A712-18BA27675C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441F-EA98-4614-9A93-3AEE76BD09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CE5C-0446-4A3D-8BB6-EBB186FEC5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0436-D09F-4ABE-B098-FC07DF275F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6D3D-0EA8-4AFB-B591-1D4CC4EAC4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E0DE-5BFC-4DA6-8967-76AD16E41F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5D61-B0D2-4448-8063-BA283480C9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BA2EA-60ED-4982-84F3-70381242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30388-F810-44C5-9972-3EA92AA7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7313F-D01D-40C5-B3F3-84842D6A0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3ADDC-37BB-4EAE-B700-249D7A657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8505-AC44-4D29-AE2C-273A316E9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3C34-1837-4D2E-979D-0F949698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AB61-9C31-4FC2-9DAD-517953AA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8648-F253-4E88-8287-8D3C739F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A69B-1B01-4C0D-9E51-A914E34E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789B-F593-4D0B-B021-6E852DEE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3338-FEEE-41F2-99D1-DB46AF18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D1B02-D9D0-4DE6-9D19-52F2AB64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685D-82AC-4EC7-A2EA-C7B66940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D1AC-D61B-4A3F-BD93-4D55501D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4D7C-AFB1-4A07-8BD6-A2F92D7C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00A3-509B-4D9B-A6B1-969E8329A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C87F-1BFF-47D7-B3E1-368E33093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6DBAC-367C-4C92-BC15-44E09C1C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F89A7-EF9D-46F8-93EC-A2DE07AF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446EA-E0A9-48D9-A96B-6E8B82FF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06DDB-8411-41C5-AA51-BAFC83BD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193A6-F9B0-45BB-91DD-8D73E912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0301A-A47B-4FE3-93DC-E1CF8F69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8375B-7762-4203-9082-A5119AAF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C696-7068-44A9-AEB3-483AE58B00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5864-F14A-4C1C-9CC9-B70D294B5A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362320"/>
            <a:ext cx="8686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Шеста недеља:</a:t>
            </a:r>
            <a:r>
              <a:rPr b="1" lang="sr-C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Метаболизам угљених хидрат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Гликогенеза. Гликогенолиза. Глуконеогенез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3" descr="samo-logo"/>
          <p:cNvPicPr/>
          <p:nvPr/>
        </p:nvPicPr>
        <p:blipFill>
          <a:blip r:embed="rId1"/>
          <a:stretch/>
        </p:blipFill>
        <p:spPr>
          <a:xfrm>
            <a:off x="0" y="0"/>
            <a:ext cx="1752480" cy="23907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1763640" y="404640"/>
            <a:ext cx="72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ФАКУЛТЕТ МЕДИЦИНСКИХ НАУКА КРАГУЈЕВАЦ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ИАСФ Б10, шеста недељ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Катедра за медицинску биохемију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748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1.Гликогенеза започиње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фосфорилацијом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глукозе у глукозо-6-фосфат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у јетри деловањем </a:t>
            </a:r>
            <a:r>
              <a:rPr b="1" lang="en-AU" sz="2200" spc="-1" strike="noStrike" u="sng">
                <a:solidFill>
                  <a:srgbClr val="ffff00"/>
                </a:solidFill>
                <a:uFillTx/>
                <a:latin typeface="Arial"/>
              </a:rPr>
              <a:t>глукокиназе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а у мишићима деловањем </a:t>
            </a:r>
            <a:r>
              <a:rPr b="1" lang="en-AU" sz="2200" spc="-1" strike="noStrike" u="sng">
                <a:solidFill>
                  <a:srgbClr val="ffff00"/>
                </a:solidFill>
                <a:uFillTx/>
                <a:latin typeface="Arial"/>
              </a:rPr>
              <a:t>хексокиназе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У оба случаја неопходан је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ATP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 Mg</a:t>
            </a:r>
            <a:r>
              <a:rPr b="1" lang="en-AU" sz="2200" spc="-1" strike="noStrike" baseline="30000">
                <a:solidFill>
                  <a:srgbClr val="ffff00"/>
                </a:solidFill>
                <a:latin typeface="Arial"/>
              </a:rPr>
              <a:t>2+</a:t>
            </a:r>
            <a:r>
              <a:rPr b="1" lang="en-AU" sz="2200" spc="-1" strike="noStrike">
                <a:solidFill>
                  <a:srgbClr val="a886e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Glucose + ATP -----&gt; glucose-6-PO4 + ADP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2.У наредној реакцији глукозо-6-фосфат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се преводи у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глукозo-1-фoсфат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дејствoм ензима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 u="sng">
                <a:solidFill>
                  <a:srgbClr val="ffff00"/>
                </a:solidFill>
                <a:uFillTx/>
                <a:latin typeface="Arial"/>
              </a:rPr>
              <a:t>фoсфoглукoмутазe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Glucose 6-PO4 &lt;------------&gt; Glucose –1- PO4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6456240" y="620640"/>
            <a:ext cx="2579760" cy="55753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6"/>
          <p:cNvSpPr/>
          <p:nvPr/>
        </p:nvSpPr>
        <p:spPr>
          <a:xfrm>
            <a:off x="8153640" y="157644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g2+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324000" y="319320"/>
            <a:ext cx="859140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Глукозо-1-фосфат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уридин-трифосфат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УТП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под утицајем глукозо-1-фосфо уридилтрансферазе (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УДПГ-пирофосфорилазе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реагују и настаје активни нуклеотид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уридин-дифосфат-глукоза</a:t>
            </a:r>
            <a:r>
              <a:rPr b="1" lang="en-AU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sr-Latn-CS" sz="2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sr-Latn-CS" sz="2200" spc="-1" strike="noStrike">
                <a:solidFill>
                  <a:srgbClr val="ffff00"/>
                </a:solidFill>
                <a:latin typeface="Arial"/>
              </a:rPr>
              <a:t>(УДП – ГЛУКОЗА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00"/>
                </a:solidFill>
                <a:latin typeface="Arial"/>
              </a:rPr>
              <a:t>                                 </a:t>
            </a:r>
            <a:r>
              <a:rPr b="1" lang="sr-CS" sz="22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(UDPG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lucose 1-PO4 + UTP ---------&gt; UDP-glucose + PPi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62" name="Group 11"/>
          <p:cNvGrpSpPr/>
          <p:nvPr/>
        </p:nvGrpSpPr>
        <p:grpSpPr>
          <a:xfrm>
            <a:off x="755640" y="3429000"/>
            <a:ext cx="4608000" cy="2879280"/>
            <a:chOff x="755640" y="3429000"/>
            <a:chExt cx="4608000" cy="2879280"/>
          </a:xfrm>
        </p:grpSpPr>
        <p:pic>
          <p:nvPicPr>
            <p:cNvPr id="163" name="Picture 7" descr=""/>
            <p:cNvPicPr/>
            <p:nvPr/>
          </p:nvPicPr>
          <p:blipFill>
            <a:blip r:embed="rId1"/>
            <a:stretch/>
          </p:blipFill>
          <p:spPr>
            <a:xfrm>
              <a:off x="812880" y="3522240"/>
              <a:ext cx="431208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Oval 8"/>
            <p:cNvSpPr/>
            <p:nvPr/>
          </p:nvSpPr>
          <p:spPr>
            <a:xfrm>
              <a:off x="4326480" y="5219640"/>
              <a:ext cx="978840" cy="65844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5" name="Oval 9"/>
            <p:cNvSpPr/>
            <p:nvPr/>
          </p:nvSpPr>
          <p:spPr>
            <a:xfrm>
              <a:off x="4384800" y="3522240"/>
              <a:ext cx="978840" cy="84780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6" name="Oval 10"/>
            <p:cNvSpPr/>
            <p:nvPr/>
          </p:nvSpPr>
          <p:spPr>
            <a:xfrm>
              <a:off x="755640" y="3429000"/>
              <a:ext cx="1151640" cy="103644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167" name="Picture 12" descr="glycogen_UDP_glucose-pyrophosphorylase"/>
          <p:cNvPicPr/>
          <p:nvPr/>
        </p:nvPicPr>
        <p:blipFill>
          <a:blip r:embed="rId2"/>
          <a:stretch/>
        </p:blipFill>
        <p:spPr>
          <a:xfrm>
            <a:off x="5435640" y="2924280"/>
            <a:ext cx="331164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"/>
          <p:cNvSpPr/>
          <p:nvPr/>
        </p:nvSpPr>
        <p:spPr>
          <a:xfrm>
            <a:off x="250920" y="1011240"/>
            <a:ext cx="86421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УДП- глукоза је директни извор гликозил остатака са активисаном О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групом на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1 атому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нзим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гликоген синтаза (глукозил трансфераза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) преноси активисани глукозил остатак на нередукујући крај гликогена и катализује настанак α-1,4-гликозидне везе, између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1 активног глукозил остатка и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4 терминалне глукозе ланца гликогена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2052720" y="3657600"/>
            <a:ext cx="503856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ГЛИКОГЕНЕЗ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78487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609480" y="988920"/>
            <a:ext cx="8001000" cy="57229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ГЛИКОГЕНЕЗ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864216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Тако се молекул гликогена продужио за један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молекул глукоз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Понављајућим деловањем ензима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гликоген синтазе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увећава се основни ланац гликоген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до дужине од најмање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11 глукозил остатака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Тада су створени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услови з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дејство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ензима гранања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гликогена,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који преноси најмање 6 глукозил остатака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и формира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рачву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ланца гликогена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с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α-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1,6-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гликозидном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везом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Захваљујући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дејству овог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ензима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молекул гликогена је изразито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рачвас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ГЛИКОГЕНЕЗ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6" name="Content Placeholder 3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2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ffff00"/>
                </a:solidFill>
                <a:uFillTx/>
                <a:latin typeface="Arial"/>
              </a:rPr>
              <a:t>ГЛИКОГЕНОЛИЗА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3516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395280" y="849240"/>
            <a:ext cx="83534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Процес разлагања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гликогена,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ГЛИКОГЕНОЛИЗА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тј.  мобилизација депонованих молекула глукозе из гликогена је сложен,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нзимски катализован процес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Гликоген је у организму човека присутан у свим ћелијама, али га највише има у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јетри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 мишићима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(до 5% тежине јетре и око 0,5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-1% мишићне масе)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Гликоген јетре учествује у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о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државању гликемије, док гликоген мишића служи као извор енергије самих ми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шића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Гликогенолиза је катализована бројним ензимима, а први у низу је фосфорилаза (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гликоген фосфорилаза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), која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раскида α-1,4-гликозидну везу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.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Фосфорилазе јетре и мишића, иако имају исту функцију, донекле се разликују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3640" y="620280"/>
            <a:ext cx="85690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Гликоген фосфорилаза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јетре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се јавља у два облика: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гликоген фосфорилаза а</a:t>
            </a:r>
            <a:r>
              <a:rPr b="1" lang="sr-Latn-C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је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активни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облик,а 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гликоген фосфорилаза б</a:t>
            </a:r>
            <a:r>
              <a:rPr b="1" lang="sr-R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је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 неактивни облик.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2. Гликоген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фосфорилаза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мишића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је функционално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слична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са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стоименим ензимом јетре, али се имунолошки и генетски значајно разликују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Гликоген фосфорилаза је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димер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свака подјединица садржи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пиридоксал-фосфат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. Активни су само димерни облици ензима.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Гликоге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762120" y="3276720"/>
            <a:ext cx="7929360" cy="30700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8"/>
          <p:cNvSpPr/>
          <p:nvPr/>
        </p:nvSpPr>
        <p:spPr>
          <a:xfrm>
            <a:off x="228600" y="457200"/>
            <a:ext cx="8713800" cy="27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Гликоген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је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хомополимер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глукозе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ја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је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примарна функција да организму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обезбеди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“брзу” енергију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Резерва угљених хидрата за регулисање гликемије у људском организму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179280" y="1051200"/>
            <a:ext cx="896472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Разградња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гликогена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по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ње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дејством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активиране гликоген фосфорилазе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(у м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ма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у јетри). Пр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томе се де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ава фосфорилит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ка разградња тј. уво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молекула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неорганск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ог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фосфора.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Кидањем алфа-1,4 гликозидних веза из гликогена се,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са нередукују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г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краја, одваја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одговарају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 број молекула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глукозо-1 фосфата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Glikogen (n) + Pi &lt;-----&gt;Glikogen (n-1) + Glukozo-1-fosfa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2124000" y="3886200"/>
            <a:ext cx="48243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228600" y="152280"/>
          <a:ext cx="8915400" cy="6553440"/>
        </p:xfrm>
        <a:graphic>
          <a:graphicData uri="http://schemas.openxmlformats.org/drawingml/2006/table">
            <a:tbl>
              <a:tblPr/>
              <a:tblGrid>
                <a:gridCol w="685800"/>
                <a:gridCol w="1757520"/>
                <a:gridCol w="1923840"/>
                <a:gridCol w="4548240"/>
              </a:tblGrid>
              <a:tr h="39060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рс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зи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едостатак ензим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линичка сли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21744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_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гликоген синтаз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ипогликемија; хиперкетонемија; рана смр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41616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Von Gierke-ова болес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глукозо-6-фосфатаз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накупљање гликогена у јетри и бубрежним тубулима; хипогликемија; лактатн аацидоза; кетоза; хиперлипидемиј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74268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_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транспортер глукозо-6-фосфата у ендоплазматски ретикулум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као тип Ia; неутропенија и смањена функција неутрофила која доводи до повратних инфекциј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60660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омпеова болес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лизозомска α1,4 и  α1,6 глукозидаз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накупљање гликоген ау лизозомима: јувенилни облик, мишићна хипотонија, смрт због срчаног застоја пре друге године; адултни облик, мишићна дистрофиј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41580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орбеова или Коријева болес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ензим дегранањ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ипогликемија у гладовању; хепатомегалија у детињству; накупљање карактеристичних разгранатих полисахарид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5028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лимитирана декстриноз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јетрени ензим гранањ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као тип IIIa, али без мишићне слабост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54288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V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Андерсенова болес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ензим гранањ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епатоспленомегалија; накупљање полисахарида с малим бројем места гранања; смрт због затајења срца или оштећење јетре у првој години живо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55728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Mc Ardle-ов синдром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мишићна фосфорилаз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слабо подношење мишићне активности; абнормално  висок висок мишићни гликоген (2,5-4%); ниска концентрација лактата у крви након вежбањ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41580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ерсова болес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јетрена фосфорилаз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епатомегалија; накупљање гликогена у јетри; умерена хипогликемија; добра прогноз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55728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I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Таруова болес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мишићна и еритроцитна фосфофруктокиназа-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слабо подношење мишићне активности; абнормално висок мишићни гликоген (2,5-4%); ниска концентрација лактата у крви након вежбања; хемолитичка анемиј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41760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II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јетрена фосфорилаза-киназ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епатомегалија; накупљање гликогена у јетри; умерена хипогликемија; генерално добра прогноз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57924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јетрена и мишићнафосфорилаза-киназ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епатомегалија; накупљање гликогена у јетри и мишићима; умерена хипогликемија; генерално добра прогноз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4380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X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сАМР- зависна протеин киназ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епатомегалија; накупљање гликогена у јетри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</a:tbl>
          </a:graphicData>
        </a:graphic>
      </p:graphicFrame>
      <p:sp>
        <p:nvSpPr>
          <p:cNvPr id="184" name="Rectangle 1"/>
          <p:cNvSpPr/>
          <p:nvPr/>
        </p:nvSpPr>
        <p:spPr>
          <a:xfrm>
            <a:off x="1971720" y="1589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a886e0"/>
                </a:solidFill>
                <a:latin typeface="Arial"/>
              </a:rPr>
              <a:t>  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Скра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вање ланца полимера гликогена те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 све до оног тренутка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док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се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не прибл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 месту гранања главног ланца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тј. месту где је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алфа-1,6 гликозидн</a:t>
            </a:r>
            <a:r>
              <a:rPr b="1" lang="sr-CS" sz="22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 веза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на растојањ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од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4 гликозил остатка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a886e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Тада делује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ензим трисахарид трансфераза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која трисахарадни сегмент преноси на главни ланац, који се проду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ава.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a886e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После преме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тања три гликозил остатка, место гранања је доступно дејству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ензима дегранања (амило-1,6-глукозидаза)</a:t>
            </a:r>
            <a:r>
              <a:rPr b="1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који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кида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алфа-1,6 гликозидну везу. То се одвија хидролити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ким путем,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добија</a:t>
            </a:r>
            <a:r>
              <a:rPr b="1" lang="sr-C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 се </a:t>
            </a:r>
            <a:r>
              <a:rPr b="1" lang="sr-C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молекул Д-глукозе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а не глукоза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1-фосфат.</a:t>
            </a:r>
            <a:r>
              <a:rPr b="0" lang="en-AU" sz="2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8883n23_15"/>
          <p:cNvPicPr/>
          <p:nvPr/>
        </p:nvPicPr>
        <p:blipFill>
          <a:blip r:embed="rId1"/>
          <a:stretch/>
        </p:blipFill>
        <p:spPr>
          <a:xfrm>
            <a:off x="826920" y="549360"/>
            <a:ext cx="7632720" cy="60624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898200" y="189000"/>
            <a:ext cx="243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ffff00"/>
                </a:solidFill>
                <a:latin typeface="Arial"/>
              </a:rPr>
              <a:t>Трисахарид трансфераз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700360" y="5950080"/>
            <a:ext cx="2303280" cy="3070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ffff00"/>
                </a:solidFill>
                <a:latin typeface="Arial"/>
              </a:rPr>
              <a:t>Гликоген фосфорилаз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50840" y="762120"/>
            <a:ext cx="518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Молекул глукозо-1-фосфат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нити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мо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 да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напусти интра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лијски простор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пре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 у крв, нити мо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директно да се користи као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нергетски материјал, јер се не разла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 гликолизом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Зато је неопходно да се под дејством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фосфоглукомутазе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преведе у глукозо-6-фосфат који мо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 да се укљу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 у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гликолизу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Глукозо-6-фосфат се мо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 прикљу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ти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пентозо-фосфатном путу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преко ензима 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глукозо-</a:t>
            </a: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-дехидрогеназе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до стварање 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NADPH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 пентоза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5334120" y="1295280"/>
            <a:ext cx="3394080" cy="3888000"/>
            <a:chOff x="5334120" y="1295280"/>
            <a:chExt cx="3394080" cy="3888000"/>
          </a:xfrm>
        </p:grpSpPr>
        <p:pic>
          <p:nvPicPr>
            <p:cNvPr id="191" name="Picture 4" descr=""/>
            <p:cNvPicPr/>
            <p:nvPr/>
          </p:nvPicPr>
          <p:blipFill>
            <a:blip r:embed="rId1"/>
            <a:srcRect l="0" t="22116" r="53132" b="38069"/>
            <a:stretch/>
          </p:blipFill>
          <p:spPr>
            <a:xfrm>
              <a:off x="5334120" y="1511280"/>
              <a:ext cx="3394080" cy="33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Oval 7"/>
            <p:cNvSpPr/>
            <p:nvPr/>
          </p:nvSpPr>
          <p:spPr>
            <a:xfrm>
              <a:off x="6126120" y="4103640"/>
              <a:ext cx="2590920" cy="107964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3" name="Oval 8"/>
            <p:cNvSpPr/>
            <p:nvPr/>
          </p:nvSpPr>
          <p:spPr>
            <a:xfrm>
              <a:off x="7421760" y="1295280"/>
              <a:ext cx="792000" cy="64764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4"/>
          <p:cNvSpPr/>
          <p:nvPr/>
        </p:nvSpPr>
        <p:spPr>
          <a:xfrm>
            <a:off x="228600" y="380880"/>
            <a:ext cx="8915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. У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ffff00"/>
                </a:solidFill>
                <a:latin typeface="Arial"/>
              </a:rPr>
              <a:t>ЈЕТРИ</a:t>
            </a:r>
            <a:r>
              <a:rPr b="1" lang="sr-C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мањој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мер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у бубрезима (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1" lang="sr-CS" sz="2200" spc="-1" strike="noStrike">
                <a:solidFill>
                  <a:srgbClr val="ffff00"/>
                </a:solidFill>
                <a:latin typeface="Arial"/>
              </a:rPr>
              <a:t>Е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 МИ</a:t>
            </a:r>
            <a:r>
              <a:rPr b="1" lang="sr-CS" sz="22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sr-Latn-CS" sz="2200" spc="-1" strike="noStrike">
                <a:solidFill>
                  <a:srgbClr val="ffff00"/>
                </a:solidFill>
                <a:latin typeface="Arial"/>
              </a:rPr>
              <a:t>ћ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ИМА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налази се ензим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глукозо-6-фосфатаза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који разла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(дефосфорилише)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глукозо-6-фосфат до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глукозе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, која одлази у циркулацију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за одржавање гликемиј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95" name="Group 10"/>
          <p:cNvGrpSpPr/>
          <p:nvPr/>
        </p:nvGrpSpPr>
        <p:grpSpPr>
          <a:xfrm>
            <a:off x="380880" y="2743200"/>
            <a:ext cx="8137440" cy="3384360"/>
            <a:chOff x="380880" y="2743200"/>
            <a:chExt cx="8137440" cy="3384360"/>
          </a:xfrm>
        </p:grpSpPr>
        <p:pic>
          <p:nvPicPr>
            <p:cNvPr id="196" name="Picture 5" descr=""/>
            <p:cNvPicPr/>
            <p:nvPr/>
          </p:nvPicPr>
          <p:blipFill>
            <a:blip r:embed="rId1"/>
            <a:srcRect l="0" t="38555" r="0" b="42183"/>
            <a:stretch/>
          </p:blipFill>
          <p:spPr>
            <a:xfrm>
              <a:off x="664560" y="3057480"/>
              <a:ext cx="7853760" cy="25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Oval 8"/>
            <p:cNvSpPr/>
            <p:nvPr/>
          </p:nvSpPr>
          <p:spPr>
            <a:xfrm>
              <a:off x="380880" y="2743200"/>
              <a:ext cx="3690000" cy="141660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8" name="Oval 9"/>
            <p:cNvSpPr/>
            <p:nvPr/>
          </p:nvSpPr>
          <p:spPr>
            <a:xfrm>
              <a:off x="1234080" y="4789440"/>
              <a:ext cx="2932560" cy="13381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Веза  гликогенезе и гликогенолизе са     осталим метаболичким путевим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12800" y="1844280"/>
            <a:ext cx="84312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Гликоген се разграђује и настаје из глукозо 1 фосфата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2. Глукозо-1-фосфат до глукозе-6-фосфат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(фосфоглукомутазна реверзибилна реакција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3. Од глукозо-6-фосфата до глукозе (само ЈЕТРА и БУБРЕЗИ </a:t>
            </a:r>
            <a:r>
              <a:rPr b="0" lang="en-AU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за циркулацију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4. Глукозо-6-фосфат из глукозе преко киназа (хексокиназе или глукокиназе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5. Од глукозо-6-фосфата до и од гликолизе (катаболизам) и глуконеогенезу (анаболизам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6. Од глукозо-6-фосфата до пентозног пута (нереверзибилно) за редукујуће агенсе  (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NADPH)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и рибозу за нуклеинске киселине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64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Алостеријска регулација гликоген фосфорилазе</a:t>
            </a:r>
            <a:r>
              <a:rPr b="1" lang="en-A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1692360" y="1052640"/>
            <a:ext cx="5010120" cy="18097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"/>
          <p:cNvSpPr/>
          <p:nvPr/>
        </p:nvSpPr>
        <p:spPr>
          <a:xfrm>
            <a:off x="539640" y="2921040"/>
            <a:ext cx="828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00"/>
                </a:solidFill>
                <a:latin typeface="Arial"/>
              </a:rPr>
              <a:t>Инактивна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форма гли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ког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ен фосфорилазе се јо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  назива</a:t>
            </a:r>
            <a:r>
              <a:rPr b="0" lang="en-AU" sz="18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ffff00"/>
                </a:solidFill>
                <a:latin typeface="Arial"/>
              </a:rPr>
              <a:t>Т-форма</a:t>
            </a:r>
            <a:r>
              <a:rPr b="0" lang="en-AU" sz="1800" spc="-1" strike="noStrike">
                <a:solidFill>
                  <a:srgbClr val="ffff00"/>
                </a:solidFill>
                <a:latin typeface="Arial"/>
              </a:rPr>
              <a:t> (tense)</a:t>
            </a:r>
            <a:r>
              <a:rPr b="0" lang="en-AU" sz="1800" spc="-1" strike="noStrike">
                <a:solidFill>
                  <a:srgbClr val="a886e0"/>
                </a:solidFill>
                <a:latin typeface="Arial"/>
              </a:rPr>
              <a:t> ,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док активна форма је добилa име</a:t>
            </a:r>
            <a:r>
              <a:rPr b="0" lang="en-AU" sz="18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Р-фoрмa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 (relax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a886e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AMP</a:t>
            </a:r>
            <a:r>
              <a:rPr b="1" lang="en-AU" sz="18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се нормално везује за</a:t>
            </a:r>
            <a:r>
              <a:rPr b="0" lang="en-AU" sz="18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ffff00"/>
                </a:solidFill>
                <a:latin typeface="Arial"/>
              </a:rPr>
              <a:t>инактивну Т-форму фосфорилазе-б</a:t>
            </a: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Везивањeм AMP-a долази до комформационих промена код фосфoрилазе-б ,такo да прелази у Р-фoрму или активну фoрму –</a:t>
            </a:r>
            <a:r>
              <a:rPr b="0" lang="en-AU" sz="18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ffff00"/>
                </a:solidFill>
                <a:latin typeface="Arial"/>
              </a:rPr>
              <a:t>БЕЗ ФОСФОРИЛАЦИЈ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Овај алостеријски ефeкaт AMP је неопходан за енергетскe потрeбe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ЕЛИЈ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00"/>
                </a:solidFill>
                <a:latin typeface="Arial"/>
              </a:rPr>
              <a:t>Глукоза алостеријски инхибира фосфорилазу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 тако активира трансформацију активне Т-форме у инактивну Р-форму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Алостеријска регулација гликоген синтазе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392960" cy="17254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501480" y="3716280"/>
            <a:ext cx="8642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Пове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ано акумулирање 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гликозе-6-фосфата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долази до 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активације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гликоген синтазе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трансформације глукозе-6-фосфата у гликоген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Глукоза–6-фосфат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се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алостеријски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везује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за фосфорилисану инактивну гликоген синтазу-д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трансформ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 у активну фосфорилисану гликоген-синтазу (без дефосфорилације)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360" y="-30492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Регулација гликогенезе</a:t>
            </a: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гликогенолизе</a:t>
            </a:r>
            <a:r>
              <a:rPr b="0" lang="sr-Latn-B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ковалентним модификацијам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-93960" y="1218960"/>
            <a:ext cx="5808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a886e0"/>
                </a:solidFill>
                <a:latin typeface="Arial"/>
              </a:rPr>
              <a:t>        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Фосфорилација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дефосфорилација гликоген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синтазе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(анаболизам гликогена)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гликоген-фосфорилазе (катаболизам гликогена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Постоје два облика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гликоген синтазе:</a:t>
            </a: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фосфорилисани, или неактивни облик – д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дефосфорилисани, тј. активни облик - и</a:t>
            </a: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Ова два облика могу да прелазе један у  друг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У физиолошким условима синтеза гликогена зависи од</a:t>
            </a: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гликоген синтазе -и</a:t>
            </a: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која настаје из</a:t>
            </a: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гликоген синтазе -д</a:t>
            </a: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деловањем два ензима:</a:t>
            </a: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протеин фосфатазе и протеин киназе-А</a:t>
            </a: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5638680" y="1773360"/>
            <a:ext cx="350532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СТРУКТУРА ГЛИКОГЕН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1519200" y="1676520"/>
            <a:ext cx="6105600" cy="42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Постоје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два облика гликоген фосфорилазе: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46483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фосфорилисани, или активан облик – 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дефосфорилисани, тј. неактивни облик - б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Ова два облика могу да прелазе један у  друг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У физиолошким условима разградња гликогена зависи од</a:t>
            </a: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гликоген фосфорилазе а</a:t>
            </a:r>
            <a:r>
              <a:rPr b="1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која настаје 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из гликоген синтазе -б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деловањем два ензима: 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протеин фосфатазе и фосфорилазе киназе-А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5029200" y="1447920"/>
            <a:ext cx="4114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Хормонска регулација</a:t>
            </a:r>
            <a:r>
              <a:rPr b="0" lang="en-AU" sz="44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Глукагон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и 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епинефрин (адреналин)</a:t>
            </a:r>
            <a:r>
              <a:rPr b="1" lang="en-A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8040" indent="-518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Хепатоцити поседују α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1 и β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2 рецепторе за катехоламине, као и рецепторе за глукагон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8040" indent="-518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Поједини протеински хормони</a:t>
            </a: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епинефрин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 глу</a:t>
            </a: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к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агон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мобил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у гликоген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активирају гликогенолизу тако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то се везују за своје рецепторе са екстр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елијске стране плазма мембран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8040" indent="-518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По везивању хормона за свој рецептор,</a:t>
            </a: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аденилат циклаза</a:t>
            </a:r>
            <a:r>
              <a:rPr b="1" lang="en-AU" sz="2000" spc="-1" strike="noStrike">
                <a:solidFill>
                  <a:srgbClr val="a886e0"/>
                </a:solidFill>
                <a:latin typeface="Arial"/>
              </a:rPr>
              <a:t>,</a:t>
            </a: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мембрански ензим, се активира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катализује синтезу</a:t>
            </a: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цикли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ног АМП</a:t>
            </a: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(3',5'-АМП) из АТП-а</a:t>
            </a: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                             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ATP --&gt; cAMP + PPi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8040" indent="-518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Цикли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ни АМП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активира протеин киназу А</a:t>
            </a:r>
            <a:r>
              <a:rPr b="1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која регул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е инактивацију гликоген синтазе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инхибицију гликогенезу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активацију фосфорилазе киназе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активацију гликогенолиз</a:t>
            </a:r>
            <a:r>
              <a:rPr b="0" lang="sr-CS" sz="2000" spc="-1" strike="noStrike">
                <a:solidFill>
                  <a:srgbClr val="ffff00"/>
                </a:solidFill>
                <a:latin typeface="Arial"/>
              </a:rPr>
              <a:t>е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8040" indent="-518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Дакле, за време гладовања (глукагон) или у стресним ситуацијама (епинф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р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ин) , 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е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ћ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ер који се налази као резерва у гликогену се мобили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е 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 користи као гориво у организму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4"/>
          <p:cNvSpPr/>
          <p:nvPr/>
        </p:nvSpPr>
        <p:spPr>
          <a:xfrm>
            <a:off x="324000" y="808560"/>
            <a:ext cx="8820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 u="sng">
                <a:solidFill>
                  <a:srgbClr val="ffff00"/>
                </a:solidFill>
                <a:uFillTx/>
                <a:latin typeface="Arial"/>
              </a:rPr>
              <a:t>Инсулин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зра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ава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антагонист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ни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фекат , супротан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ефекту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адреналина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Инсулин фаворизује тало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ење гликогена као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е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ћ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ерне резерве тако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то активира синтезу гликогена (гликогенезу)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и 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инх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бира деградацију гликогена (гликогенолизу)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После везивања за свој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тирозин-киназни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рецептор, инсулин активира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тирозин киназу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која је везана за инсулински рецептор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то доводи до активације разли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тих сигналних трансдукционих путева који , на крају,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активирају протеин фосфатазу 1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Протеин фосфатаза 1 се 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одваја од фосфорилазе</a:t>
            </a: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катализује дефосфорилацију гликоген синтазе до њене 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активне форме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фаворизује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синтезу гликоген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44848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250920" y="1341360"/>
            <a:ext cx="889308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Калцијум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Јо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За α1 рецeптоre хепатоцита везујe сe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норадреналин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, штo пoкрећe мобилизацију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Ca 2+ из митохондрија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,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а пораст концентрације овог катјона активира калмодулинску компoненту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кинaзе.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наза фосфорилише гликоген фосфорилазу б, у активни облик, што води 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разлагању гликогена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. Сл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но цикл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ном AMP-u, Ca2+ делује као секундарни гласник који активира м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ну фосфорилазу киназу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Дејство Ca2+ на фосфорилазу киназу  фаворизује гликогенолизу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1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78168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1962720" y="330120"/>
            <a:ext cx="48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Глукоза у крви: 3,5 - 6,3 mmol/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221120" y="1152360"/>
            <a:ext cx="73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Угљенихидрат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 хране одр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вају концентрациј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лукозе 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гликемиј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по неколико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са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Line 4"/>
          <p:cNvSpPr/>
          <p:nvPr/>
        </p:nvSpPr>
        <p:spPr>
          <a:xfrm>
            <a:off x="4495680" y="2209680"/>
            <a:ext cx="0" cy="914400"/>
          </a:xfrm>
          <a:prstGeom prst="line">
            <a:avLst/>
          </a:prstGeom>
          <a:ln w="5724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189720" y="3357720"/>
            <a:ext cx="897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градња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гликогена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у јетри</a:t>
            </a:r>
            <a:r>
              <a:rPr b="0" lang="sr-Latn-C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залихе се исцрпљују након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4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Line 6"/>
          <p:cNvSpPr/>
          <p:nvPr/>
        </p:nvSpPr>
        <p:spPr>
          <a:xfrm>
            <a:off x="4495680" y="3962520"/>
            <a:ext cx="0" cy="914400"/>
          </a:xfrm>
          <a:prstGeom prst="line">
            <a:avLst/>
          </a:prstGeom>
          <a:ln w="5724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941760" y="4916520"/>
            <a:ext cx="780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др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вање гликемије зависи од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синтез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глукозе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де нов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процесом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ГЛУКОНЕОГЕНЕЗЕ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у јетр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122120" y="476280"/>
            <a:ext cx="634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ТАЊА У КОЈИМА СЕ ИНТЕЗИВНО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ТРО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И ГЛУКОЗ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250920" y="213372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Гладовањ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е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тро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 се резерве глукозе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Тезак физи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к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напо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мобил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се липиди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угљенихидрати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тресна стањ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2364480" y="297000"/>
            <a:ext cx="35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ГЛУКОНЕОГЕНЕЗ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355760" y="133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0" y="907920"/>
            <a:ext cx="9058320" cy="70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Глуконеогенеза</a:t>
            </a:r>
            <a:r>
              <a:rPr b="1" lang="en-AU" sz="2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је процес синтезе глукозе из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0099cc"/>
                </a:solidFill>
                <a:latin typeface="Arial"/>
              </a:rPr>
              <a:t> 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неугљенохидратних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компоненти</a:t>
            </a:r>
            <a:r>
              <a:rPr b="0" lang="en-A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Најва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нији извори су </a:t>
            </a:r>
            <a:r>
              <a:rPr b="0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пируват (гликолиза)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лактат (анаеробн</a:t>
            </a:r>
            <a:r>
              <a:rPr b="0" lang="sr-CS" sz="2200" spc="-1" strike="noStrike" u="sng">
                <a:solidFill>
                  <a:srgbClr val="ffff00"/>
                </a:solidFill>
                <a:uFillTx/>
                <a:latin typeface="Arial"/>
              </a:rPr>
              <a:t>и продукт гликолизе)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као и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 глицерол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(масно ткиво - из липида),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амино киселине (разградња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ми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ћ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них протеина - аланин, серин,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 глицин, валин, аргинин итд.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Главне улазне та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ке за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глуконеогенезу су 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Пируват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Оксалацетат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Дихидроацетон</a:t>
            </a: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 -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фосфат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99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0" name="Picture 5" descr="gluconeo"/>
          <p:cNvPicPr/>
          <p:nvPr/>
        </p:nvPicPr>
        <p:blipFill>
          <a:blip r:embed="rId1"/>
          <a:stretch/>
        </p:blipFill>
        <p:spPr>
          <a:xfrm>
            <a:off x="5580000" y="4149720"/>
            <a:ext cx="327492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1252440" y="372960"/>
            <a:ext cx="73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Супстрати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Прекурсори Глуконеогенез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-1800" y="1413000"/>
            <a:ext cx="9460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Већина </a:t>
            </a:r>
            <a:r>
              <a:rPr b="0" lang="en-AU" sz="2400" spc="-1" strike="noStrike" u="sng">
                <a:solidFill>
                  <a:srgbClr val="ffff00"/>
                </a:solidFill>
                <a:uFillTx/>
                <a:latin typeface="Arial"/>
              </a:rPr>
              <a:t>међупроизвода циклуса трикарбонских киселина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мож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да послужи као полазни материјал глуконеогенезе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Сви ти међупроизводи 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разлажу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се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циклусом трикарбонк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лни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х</a:t>
            </a:r>
            <a:r>
              <a:rPr b="0" lang="en-A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киселина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до </a:t>
            </a:r>
            <a:r>
              <a:rPr b="1" lang="en-AU" sz="2400" spc="-1" strike="noStrike" u="sng">
                <a:solidFill>
                  <a:srgbClr val="ffff00"/>
                </a:solidFill>
                <a:uFillTx/>
                <a:latin typeface="Arial"/>
              </a:rPr>
              <a:t>оксалацетата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а овај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се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укључује у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глуконеогенез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Поједине </a:t>
            </a:r>
            <a:r>
              <a:rPr b="0" lang="en-AU" sz="2400" spc="-1" strike="noStrike" u="sng">
                <a:solidFill>
                  <a:srgbClr val="ffff00"/>
                </a:solidFill>
                <a:uFillTx/>
                <a:latin typeface="Arial"/>
              </a:rPr>
              <a:t>аминокиселине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(аланин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трансаминацијом у ми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ћ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им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(Глукоза-Аланин циклус)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дај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безазотни остатак типа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пирува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5486400" y="3657600"/>
            <a:ext cx="3352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ГЛИКОГЕН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Примарно се синтет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 у јетри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м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ма, мада мо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гу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да га синтет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и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мозак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материца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налог биљном скробу, па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сто зову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вотињски скроб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У цитоплазми се налази у облику гранула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игра веома ва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ну улогу у ц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кл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усу глукозе  у јетри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Гликоген формира енергетске резерве које м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гу врло брзо да се разло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 до глукозе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искористе у организму, ако су потребе за глукозом пове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ане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1195200" y="189000"/>
            <a:ext cx="73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Супстрати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Прекурсори Глуконеогенез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5435640" y="1052640"/>
            <a:ext cx="3124080" cy="30477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4"/>
          <p:cNvSpPr/>
          <p:nvPr/>
        </p:nvSpPr>
        <p:spPr>
          <a:xfrm>
            <a:off x="0" y="923760"/>
            <a:ext cx="8821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ffff00"/>
                </a:solidFill>
                <a:uFillTx/>
                <a:latin typeface="Arial"/>
              </a:rPr>
              <a:t>Лактат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из крви се трансформ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е у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глукозу у јетри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у тз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Коријевом циклус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Коријев циклус је кружење лактат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који настај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у мишићим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при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анаеробној гликолиз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Лактат дифундује у крвоток, а затим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о јетре.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Јетра трансформише лактат у пируват, а затим у глукоз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Настала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глукоза се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враћа у крвоток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одакл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може да буде искор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шћ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ена од стран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мишићних ћелија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ускладиштена као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гликоген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980280" y="620640"/>
            <a:ext cx="71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Супстрати-Прекурсори Глуконеогенез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0" y="1413000"/>
            <a:ext cx="9144000" cy="40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Глицерол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(добијен разградњом три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ацилг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ицер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ол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а у масном ткиву) се директно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користи за синтезу глукозе и то фосфорилацијом до </a:t>
            </a: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глицерол-3 –фосфата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 помоћу   </a:t>
            </a:r>
            <a:r>
              <a:rPr b="0" lang="sr-CS" sz="2000" spc="-1" strike="noStrike" u="sng">
                <a:solidFill>
                  <a:srgbClr val="ffff00"/>
                </a:solidFill>
                <a:uFillTx/>
                <a:latin typeface="Arial"/>
              </a:rPr>
              <a:t>глицерол киназе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и   дехидрогенацијом до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дихидроацетат  фосфата (DHAP)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помоћу глицерол-3-фосфат дехидрогеназ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Глицерол киназа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је ензим присутан у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јетри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ми</a:t>
            </a:r>
            <a:r>
              <a:rPr b="0" lang="sr-CS" sz="20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CS" sz="2000" spc="-1" strike="noStrike">
                <a:solidFill>
                  <a:srgbClr val="ffff00"/>
                </a:solidFill>
                <a:latin typeface="Arial"/>
              </a:rPr>
              <a:t>ћ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има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бубрезима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, а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НЕ у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Масном ткиву!!!</a:t>
            </a: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395280" y="4586400"/>
            <a:ext cx="842472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250920" y="1587600"/>
            <a:ext cx="4038480" cy="52704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3"/>
          <p:cNvSpPr/>
          <p:nvPr/>
        </p:nvSpPr>
        <p:spPr>
          <a:xfrm>
            <a:off x="396000" y="476280"/>
            <a:ext cx="844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Супстрати за глуконеогенезу се укљу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ују у процес САМО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на одре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ђ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еним местим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2"/>
          <a:stretch/>
        </p:blipFill>
        <p:spPr>
          <a:xfrm>
            <a:off x="4572000" y="1557360"/>
            <a:ext cx="4176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2250360" y="371520"/>
            <a:ext cx="448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ГЛУКОНЕОГЕНЕЗ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250920" y="1484280"/>
            <a:ext cx="91868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главном се одвија у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ЈЕТРИ и бубре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зима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e5e5ff"/>
                </a:solidFill>
                <a:latin typeface="Arial"/>
              </a:rPr>
              <a:t>(1/10 због мање масе бубрега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e5e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5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Врло мало</a:t>
            </a:r>
            <a:r>
              <a:rPr b="0" lang="en-US" sz="2800" spc="-1" strike="noStrike">
                <a:solidFill>
                  <a:srgbClr val="e5e5ff"/>
                </a:solidFill>
                <a:latin typeface="Arial"/>
              </a:rPr>
              <a:t> у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мозг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келетним ми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им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р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аном ми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супрот синтези,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мозак и скелетни ми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су најв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отрошачи глукоз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1752480" y="157320"/>
            <a:ext cx="5897520" cy="64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179280" y="4762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Гликолиза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није реверзибилан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процес, због 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баријера</a:t>
            </a:r>
            <a:r>
              <a:rPr b="0" lang="en-A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кој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онемогућавају просту реверзију,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од пирувата, или лактата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до глукозе.</a:t>
            </a:r>
            <a:r>
              <a:rPr b="0" lang="en-AU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Три иреверзибилне реакције гликолизе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су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522360" y="3124080"/>
            <a:ext cx="8440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глукоза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гликозо-6-фосфа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хексокиназа</a:t>
            </a:r>
            <a:r>
              <a:rPr b="0" lang="en-AU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фруктозо-6-фосфата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фруктозо-1,6-дифосфат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фосфофруктокиназа</a:t>
            </a: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cc0000"/>
                </a:solidFill>
                <a:latin typeface="Arial"/>
              </a:rPr>
              <a:t>                 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фосфоенолпирувата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пируват.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пируват киназ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Line 4"/>
          <p:cNvSpPr/>
          <p:nvPr/>
        </p:nvSpPr>
        <p:spPr>
          <a:xfrm>
            <a:off x="2057400" y="335268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Line 5"/>
          <p:cNvSpPr/>
          <p:nvPr/>
        </p:nvSpPr>
        <p:spPr>
          <a:xfrm>
            <a:off x="3809880" y="426708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Line 6"/>
          <p:cNvSpPr/>
          <p:nvPr/>
        </p:nvSpPr>
        <p:spPr>
          <a:xfrm>
            <a:off x="3657600" y="518148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5580000" y="1066680"/>
            <a:ext cx="3564000" cy="579132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"/>
          <p:cNvSpPr/>
          <p:nvPr/>
        </p:nvSpPr>
        <p:spPr>
          <a:xfrm>
            <a:off x="77040" y="298440"/>
            <a:ext cx="9077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Све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три баријере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су премостиве, уз присуство одговарајућих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ензима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Пируват киназа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“замењују” ензим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Пируват карбоксилаза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ПЕП карбокси киназа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Фосфофруктокиназ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1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“замењује”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ензим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фру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к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тоз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о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 1,6- би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фосфата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Хексонизу “замењује” ензим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гл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коз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о-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6-фосфата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685800" y="0"/>
            <a:ext cx="756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Прва заобилазна реакција глуконеогенез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ffff00"/>
                </a:solidFill>
                <a:uFillTx/>
                <a:latin typeface="Arial"/>
              </a:rPr>
              <a:t>Конверзија пирувата у фосфоенолпируват-ПЕП</a:t>
            </a:r>
            <a:r>
              <a:rPr b="0" lang="en-AU" sz="24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-3240" y="1593720"/>
            <a:ext cx="9047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Пошто пируват високоенергетски органофосфат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не постоји могућност директне конверзије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у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фосфоенолпируват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диграва се у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два корака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Карбоксилација пирувата у оксалоацетат -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ПИРУВАТ КАРБОКСИЛА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Декарбоксилација и фосфорилација оксалацетата у ПЕП -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ФОСФОЕНОЛПИРУВАТ - КАРБОКСИКИНА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-8280" y="345960"/>
            <a:ext cx="826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ПИРУВАТ КАРБОКСИЛАЗА</a:t>
            </a: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садр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простети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у групу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БИОТИН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1752480" y="1019160"/>
            <a:ext cx="5543640" cy="65736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4"/>
          <p:cNvSpPr/>
          <p:nvPr/>
        </p:nvSpPr>
        <p:spPr>
          <a:xfrm>
            <a:off x="0" y="2066760"/>
            <a:ext cx="105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Прво, пируват прелази у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митохондрије хепатоцита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, ил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тубулоцита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а затим следи карбоксилациј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2"/>
          <a:stretch/>
        </p:blipFill>
        <p:spPr>
          <a:xfrm>
            <a:off x="914400" y="3297240"/>
            <a:ext cx="6781680" cy="5126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PyrCarbBiotinLehn4fig14-17a"/>
          <p:cNvPicPr/>
          <p:nvPr/>
        </p:nvPicPr>
        <p:blipFill>
          <a:blip r:embed="rId3"/>
          <a:stretch/>
        </p:blipFill>
        <p:spPr>
          <a:xfrm>
            <a:off x="2743200" y="411480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6726240" cy="18702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3"/>
          <p:cNvSpPr/>
          <p:nvPr/>
        </p:nvSpPr>
        <p:spPr>
          <a:xfrm>
            <a:off x="974880" y="254160"/>
            <a:ext cx="75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ПИРУВАТ КАРБОКСИЛАЗА - механизам реакциј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2"/>
          <a:stretch/>
        </p:blipFill>
        <p:spPr>
          <a:xfrm>
            <a:off x="5724360" y="2852640"/>
            <a:ext cx="3200400" cy="365760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"/>
          <p:cNvSpPr/>
          <p:nvPr/>
        </p:nvSpPr>
        <p:spPr>
          <a:xfrm>
            <a:off x="154440" y="3213000"/>
            <a:ext cx="537912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Карбокси БИОТИ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је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активиран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носик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икарбоната 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ируват (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уз присуство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Mg </a:t>
            </a:r>
            <a:r>
              <a:rPr b="1" lang="en-AU" sz="2400" spc="-1" strike="noStrike" baseline="30000">
                <a:solidFill>
                  <a:srgbClr val="ffff00"/>
                </a:solidFill>
                <a:latin typeface="Arial"/>
              </a:rPr>
              <a:t>2+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ацетил-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oA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настаје оксалацетат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rcRect l="14621" t="0" r="17138" b="0"/>
          <a:stretch/>
        </p:blipFill>
        <p:spPr>
          <a:xfrm>
            <a:off x="4876920" y="1446120"/>
            <a:ext cx="4020840" cy="43434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228600" y="1295280"/>
            <a:ext cx="41767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Хепатоцити садр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 око 10% гликогена одмах после оброка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М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 садр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 око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¾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укупног гл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когена у организму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а кол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на се мо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 на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 у бубрезима, у мозгу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у леукоцитим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Материца тако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 ствара резерве гликогена за време трудно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 за потребе фетуса</a:t>
            </a:r>
            <a:r>
              <a:rPr b="0" lang="en-AU" sz="22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5639040" cy="39542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3"/>
          <p:cNvSpPr/>
          <p:nvPr/>
        </p:nvSpPr>
        <p:spPr>
          <a:xfrm>
            <a:off x="685440" y="923760"/>
            <a:ext cx="819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Доме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пируват карбоксилазе које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везује биоти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садр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татке амино киселине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лизи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5940360" y="1773360"/>
            <a:ext cx="3203640" cy="4932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3"/>
          <p:cNvSpPr/>
          <p:nvPr/>
        </p:nvSpPr>
        <p:spPr>
          <a:xfrm>
            <a:off x="2160" y="549360"/>
            <a:ext cx="88459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луконеогенеза запо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ње у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митохондријам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а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наставља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цитоплазм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sr-Latn-C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о настали оксалоацета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 пролази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кроз унутрашњ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мембрану митохондриј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а,</a:t>
            </a: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прво с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редукује у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малат у матрикс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митоходнриј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Оксалоацетат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се редукује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у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малат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деловањем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митохондријалне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малат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дехидрогеназе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(НАДХ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3. Малат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се избацује 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из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митохондрија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на принципу његов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јонске замене са цитратом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AU" sz="24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973080" y="333360"/>
            <a:ext cx="72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интеза ПЕП - а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из оксалацетата преко мала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5796000" y="1700280"/>
            <a:ext cx="1800360" cy="5005440"/>
          </a:xfrm>
          <a:prstGeom prst="rect">
            <a:avLst/>
          </a:prstGeom>
          <a:noFill/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5796000" y="333360"/>
            <a:ext cx="3195720" cy="652464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3"/>
          <p:cNvSpPr/>
          <p:nvPr/>
        </p:nvSpPr>
        <p:spPr>
          <a:xfrm>
            <a:off x="74160" y="1289160"/>
            <a:ext cx="566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4. У цитосолу, дејством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цитозолне </a:t>
            </a:r>
            <a:br>
              <a:rPr sz="2400"/>
            </a:b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 малат дехидрогеназе,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малат с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оксид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ује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у оксалацетат (NAD+)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5. Да би из оксалацетата настао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фосфоенолпируват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потребан ј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молекул гуанозинтрифосфата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(GTP).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Реакцију катализуј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фосфоенолпируват карбоксикиназа.</a:t>
            </a:r>
            <a:r>
              <a:rPr b="0" lang="en-AU" sz="2400" spc="-1" strike="noStrike">
                <a:solidFill>
                  <a:srgbClr val="0099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1862280" y="476280"/>
            <a:ext cx="26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нтеза ПЕП - а</a:t>
            </a:r>
            <a:r>
              <a:rPr b="1" lang="en-US" sz="2400" spc="-1" strike="noStrike">
                <a:solidFill>
                  <a:srgbClr val="0099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5651640" y="914400"/>
            <a:ext cx="1892160" cy="5410080"/>
          </a:xfrm>
          <a:prstGeom prst="rect">
            <a:avLst/>
          </a:prstGeom>
          <a:noFill/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928800" y="62064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ИРУВАТ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Line 3"/>
          <p:cNvSpPr/>
          <p:nvPr/>
        </p:nvSpPr>
        <p:spPr>
          <a:xfrm>
            <a:off x="3276720" y="981000"/>
            <a:ext cx="1871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5653440" y="68580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осфоенол-пирува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1311120" y="3135240"/>
            <a:ext cx="6653160" cy="1973160"/>
          </a:xfrm>
          <a:prstGeom prst="rect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ЦЕНА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конверзије пирувата 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фосфоенолпирува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један молeкуl</a:t>
            </a:r>
            <a:r>
              <a:rPr b="1" lang="en-A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ATP</a:t>
            </a:r>
            <a:r>
              <a:rPr b="1" lang="en-A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и један молекул</a:t>
            </a:r>
            <a:r>
              <a:rPr b="1" lang="en-A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GTP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ffff00"/>
                </a:solidFill>
                <a:uFillTx/>
                <a:latin typeface="Arial"/>
              </a:rPr>
              <a:t>Пируват + ATP + GTP + H</a:t>
            </a:r>
            <a:r>
              <a:rPr b="1" lang="en-AU" sz="2400" spc="-1" strike="noStrike" u="sng" baseline="-25000">
                <a:solidFill>
                  <a:srgbClr val="ffff00"/>
                </a:solidFill>
                <a:uFillTx/>
                <a:latin typeface="Arial"/>
              </a:rPr>
              <a:t>2</a:t>
            </a:r>
            <a:r>
              <a:rPr b="1" lang="en-AU" sz="2400" spc="-1" strike="noStrike" u="sng">
                <a:solidFill>
                  <a:srgbClr val="ffff00"/>
                </a:solidFill>
                <a:uFillTx/>
                <a:latin typeface="Arial"/>
              </a:rPr>
              <a:t>O ---&gt; ПЕП + ADP</a:t>
            </a:r>
            <a:r>
              <a:rPr b="1" lang="en-AU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2125440" y="1268280"/>
            <a:ext cx="529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п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ируват карбоксила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осфо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енол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пируват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арбоксикина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5638680" y="1371600"/>
            <a:ext cx="3505320" cy="533412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3"/>
          <p:cNvSpPr/>
          <p:nvPr/>
        </p:nvSpPr>
        <p:spPr>
          <a:xfrm>
            <a:off x="1332360" y="254160"/>
            <a:ext cx="68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Пут синтезе ПЕП из </a:t>
            </a:r>
            <a:r>
              <a:rPr b="1" lang="en-AU" sz="2400" spc="-1" strike="noStrike" u="sng">
                <a:solidFill>
                  <a:srgbClr val="ffff00"/>
                </a:solidFill>
                <a:uFillTx/>
                <a:latin typeface="Arial"/>
              </a:rPr>
              <a:t>пирувата преко лакта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6659640" y="1371600"/>
            <a:ext cx="2484360" cy="5334120"/>
          </a:xfrm>
          <a:prstGeom prst="rect">
            <a:avLst/>
          </a:prstGeom>
          <a:noFill/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2160" y="1206360"/>
            <a:ext cx="572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У случају када се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пируват добиј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оксидацијом лактата у цитосолу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(на слици са десне стране)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оксалацетат</a:t>
            </a:r>
            <a:r>
              <a:rPr b="0" lang="en-AU" sz="24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се преводи у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фосфо-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енолпируват у митохондријима,</a:t>
            </a:r>
            <a:r>
              <a:rPr b="0" lang="en-AU" sz="24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помоћу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митохондријске фосфоено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- пируват-карбоксикиназе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Будући да се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оксидацијом лактата 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цитосолу “осигурава” NADH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потребан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за глуконеогенезу, није потребно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пребацивање” NADH из митохондриј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у цитосол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2411280" y="1125360"/>
            <a:ext cx="4321440" cy="547236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3"/>
          <p:cNvSpPr/>
          <p:nvPr/>
        </p:nvSpPr>
        <p:spPr>
          <a:xfrm>
            <a:off x="314280" y="260280"/>
            <a:ext cx="855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Arial"/>
              </a:rPr>
              <a:t>Реакције глуконеогенезе од ПЕП до синтезе фруктозо 1,6 бифосфата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Arial"/>
              </a:rPr>
              <a:t>су реверзибилне и идентичне реакцијама гликолиз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4973400" y="2806560"/>
            <a:ext cx="1688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Enolaza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Fosfoglicerat mutaza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2408040" y="4290840"/>
            <a:ext cx="160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Gliceraldehid fosfat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dehidrogenaza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2340000" y="2708280"/>
            <a:ext cx="4464000" cy="21607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Line 7"/>
          <p:cNvSpPr/>
          <p:nvPr/>
        </p:nvSpPr>
        <p:spPr>
          <a:xfrm>
            <a:off x="1908000" y="2708280"/>
            <a:ext cx="0" cy="201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Line 8"/>
          <p:cNvSpPr/>
          <p:nvPr/>
        </p:nvSpPr>
        <p:spPr>
          <a:xfrm flipV="1">
            <a:off x="7164360" y="2708280"/>
            <a:ext cx="0" cy="216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Text Box 9"/>
          <p:cNvSpPr/>
          <p:nvPr/>
        </p:nvSpPr>
        <p:spPr>
          <a:xfrm rot="5400000">
            <a:off x="400680" y="347508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Глуконеогене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Text Box 10"/>
          <p:cNvSpPr/>
          <p:nvPr/>
        </p:nvSpPr>
        <p:spPr>
          <a:xfrm rot="16200000">
            <a:off x="6483960" y="3242520"/>
            <a:ext cx="19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Гликоли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4916520" y="5346720"/>
            <a:ext cx="21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Fosfoheksozo izomeraz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Rectangle 12"/>
          <p:cNvSpPr/>
          <p:nvPr/>
        </p:nvSpPr>
        <p:spPr>
          <a:xfrm>
            <a:off x="3419640" y="5084640"/>
            <a:ext cx="3744720" cy="865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971640" y="260280"/>
            <a:ext cx="747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99cc"/>
                </a:solidFill>
                <a:latin typeface="Arial"/>
              </a:rPr>
              <a:t>   </a:t>
            </a:r>
            <a:r>
              <a:rPr b="1" lang="en-AU" sz="2400" spc="-1" strike="noStrike" u="sng">
                <a:solidFill>
                  <a:srgbClr val="ffff00"/>
                </a:solidFill>
                <a:uFillTx/>
                <a:latin typeface="Arial"/>
              </a:rPr>
              <a:t>Друга заобилазна реакција глуконеогенез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ефосфорилација фруктозо-1,6-дифосфата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у фруктозо-6-фосфа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1"/>
          <a:srcRect l="0" t="47944" r="0" b="0"/>
          <a:stretch/>
        </p:blipFill>
        <p:spPr>
          <a:xfrm>
            <a:off x="2743200" y="2514600"/>
            <a:ext cx="4191120" cy="183816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4"/>
          <p:cNvSpPr/>
          <p:nvPr/>
        </p:nvSpPr>
        <p:spPr>
          <a:xfrm>
            <a:off x="447480" y="1600200"/>
            <a:ext cx="805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Fructose 1,6-bisphosphate + H2O         Fructose 6-phosphate + P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434880" y="4508640"/>
            <a:ext cx="8861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За синтезу фруктозо-1,6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бис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фосфата потребна су полазна 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два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молекула фосфоенолпируват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Ензим 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Фруктозо 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1,6-би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фосфатаза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хидролитички уклања 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ортофосфат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са C1 атома фруктозо-1,6-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бис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фосфата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даје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ffff00"/>
                </a:solidFill>
                <a:latin typeface="Arial"/>
              </a:rPr>
              <a:t>фруктозо-6-фосфа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3056400" y="190512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 u="sng">
                <a:solidFill>
                  <a:srgbClr val="ffffff"/>
                </a:solidFill>
                <a:uFillTx/>
                <a:latin typeface="Arial"/>
              </a:rPr>
              <a:t>   </a:t>
            </a:r>
            <a:r>
              <a:rPr b="1" lang="sr-Latn-CS" sz="1600" spc="-1" strike="noStrike" u="sng">
                <a:solidFill>
                  <a:srgbClr val="ffffff"/>
                </a:solidFill>
                <a:uFillTx/>
                <a:latin typeface="Arial"/>
              </a:rPr>
              <a:t>Фруктозо </a:t>
            </a:r>
            <a:r>
              <a:rPr b="1" lang="en-AU" sz="1600" spc="-1" strike="noStrike" u="sng">
                <a:solidFill>
                  <a:srgbClr val="ffffff"/>
                </a:solidFill>
                <a:uFillTx/>
                <a:latin typeface="Arial"/>
              </a:rPr>
              <a:t>1,6 - бифосфатаза</a:t>
            </a:r>
            <a:r>
              <a:rPr b="0" lang="en-AU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Line 7"/>
          <p:cNvSpPr/>
          <p:nvPr/>
        </p:nvSpPr>
        <p:spPr>
          <a:xfrm>
            <a:off x="4495680" y="18288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1115640" y="549360"/>
            <a:ext cx="708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ffff00"/>
                </a:solidFill>
                <a:uFillTx/>
                <a:latin typeface="Arial"/>
              </a:rPr>
              <a:t>Тре</a:t>
            </a:r>
            <a:r>
              <a:rPr b="1" lang="sr-CS" sz="2400" spc="-1" strike="noStrike" u="sng">
                <a:solidFill>
                  <a:srgbClr val="ffff00"/>
                </a:solidFill>
                <a:uFillTx/>
                <a:latin typeface="Arial"/>
              </a:rPr>
              <a:t>ћ</a:t>
            </a:r>
            <a:r>
              <a:rPr b="1" lang="en-AU" sz="2400" spc="-1" strike="noStrike" u="sng">
                <a:solidFill>
                  <a:srgbClr val="ffff00"/>
                </a:solidFill>
                <a:uFillTx/>
                <a:latin typeface="Arial"/>
              </a:rPr>
              <a:t>а заобилазна реакција глуконеогенез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Дефосфорилација глукозо-6-фосфата у глукозу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5257800" cy="184788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4"/>
          <p:cNvSpPr/>
          <p:nvPr/>
        </p:nvSpPr>
        <p:spPr>
          <a:xfrm>
            <a:off x="598680" y="3860640"/>
            <a:ext cx="8415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По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дејством ензима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глукозо-6-фосфатазе,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кога има у великој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количини у </a:t>
            </a:r>
            <a:r>
              <a:rPr b="1" lang="en-AU" sz="2000" spc="-1" strike="noStrike" u="sng">
                <a:solidFill>
                  <a:srgbClr val="ffff00"/>
                </a:solidFill>
                <a:uFillTx/>
                <a:latin typeface="Arial"/>
              </a:rPr>
              <a:t>јетри и бубрезима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 (ендоплазматски ретикулум ЕР)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глукоз</a:t>
            </a:r>
            <a:r>
              <a:rPr b="0" lang="sr-CS" sz="2000" spc="-1" strike="noStrike">
                <a:solidFill>
                  <a:srgbClr val="ffff00"/>
                </a:solidFill>
                <a:latin typeface="Arial"/>
              </a:rPr>
              <a:t>о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-6-фосфат</a:t>
            </a:r>
            <a:r>
              <a:rPr b="0" lang="en-AU" sz="20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се хидролитицки дефосфорил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у глукозу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Глукоза напушта ћелијску средину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хепатоцита, или тубулоцита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и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одлази у циркулацију. Глукоз</a:t>
            </a:r>
            <a:r>
              <a:rPr b="0" lang="sr-CS" sz="2000" spc="-1" strike="noStrike">
                <a:solidFill>
                  <a:srgbClr val="ffff00"/>
                </a:solidFill>
                <a:latin typeface="Arial"/>
              </a:rPr>
              <a:t>о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-6-фосфатаза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се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НЕ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 налази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у </a:t>
            </a:r>
            <a:r>
              <a:rPr b="1" lang="en-AU" sz="2000" spc="-1" strike="noStrike" u="sng">
                <a:solidFill>
                  <a:srgbClr val="ffff00"/>
                </a:solidFill>
                <a:uFillTx/>
                <a:latin typeface="Arial"/>
              </a:rPr>
              <a:t>масном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 u="sng">
                <a:solidFill>
                  <a:srgbClr val="ffff00"/>
                </a:solidFill>
                <a:uFillTx/>
                <a:latin typeface="Arial"/>
              </a:rPr>
              <a:t>ткиву и скелетним мишићима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, тако да наведена ткива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не утичу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на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регулисање гликемије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1692360" y="3284640"/>
            <a:ext cx="5491080" cy="208440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3"/>
          <p:cNvSpPr/>
          <p:nvPr/>
        </p:nvSpPr>
        <p:spPr>
          <a:xfrm>
            <a:off x="1452600" y="720720"/>
            <a:ext cx="679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Настанак глукозе из глукозе-6-фосфат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250920" y="1700280"/>
            <a:ext cx="91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фосфорилација глукоз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-6-фосфат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и припрема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глукоз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за  експорт ван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елиј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укљу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је активацију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л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тих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трансмембранских протеин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см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них у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мембрани ЕР-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Т1, Т2, Т3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453600" y="5754600"/>
            <a:ext cx="83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Глукоз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-6-фосфатаз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се налази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само у ЈЕТР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и мање у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убрезима 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НЕ У МИ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Ћ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ИМ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323640" y="533520"/>
            <a:ext cx="881892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Енергетски ефекти глуконеогенезе</a:t>
            </a:r>
            <a:r>
              <a:rPr b="0" lang="en-AU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Збирна реакција конверзије пирувата у глукозу приказана ј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једначином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2 пируватa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+ 4 ATP + 2 GTP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+ 2NADH + 6 H2O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Глукоза</a:t>
            </a:r>
            <a:r>
              <a:rPr b="0" lang="en-AU" sz="24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+ 4 ADP + 2 GDP + 6 P i +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2NAD+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+ 2H+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447840" y="4038480"/>
            <a:ext cx="8696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У енергетском смислу, чини се да је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глуконеогенеза расипнички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процес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, пошто се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троше 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НЕТО 4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 молекуле високоенергетских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Фосфата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lang="sr-Latn-CS" sz="2000" spc="-1" strike="noStrike" u="sng">
                <a:solidFill>
                  <a:srgbClr val="ffff00"/>
                </a:solidFill>
                <a:uFillTx/>
                <a:latin typeface="Arial"/>
              </a:rPr>
              <a:t>6 АТП - синтеза глукозе – 2АТП разградњом глукозе)</a:t>
            </a:r>
            <a:r>
              <a:rPr b="0" lang="sr-Latn-C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Међутим, у организму постоје одређене ситуације, као што ј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претећа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хипогликемија,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или када настаје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прекомерно ослобађањ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лактата,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када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глукоза мора да се синтетише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, чак и по цену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енергетског дефицит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diabetes-glucose-regul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182880" y="549360"/>
            <a:ext cx="499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Регулација Глуконеогенез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5724360" y="1052640"/>
            <a:ext cx="3419640" cy="453708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180360" y="1628640"/>
            <a:ext cx="49554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Регулација глуконеогенез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је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реципрочна у односу 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регулацију гликолизе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, тако д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се ова два метаболичка пу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не могу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одвијати истовремен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-10080" y="4437000"/>
            <a:ext cx="7870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ffff00"/>
                </a:solidFill>
                <a:uFillTx/>
                <a:latin typeface="Arial"/>
              </a:rPr>
              <a:t>Фруктоза-1,6-бисфосфата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AMP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инхибира фруктозу-1,6 бисфосфатазу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Цитрат активира фруктозу-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1,6-бисфосфатазу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Фруктоза 2,6 бифосфат инхибира фруктозу-1,6-бисфосфатазу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1984680" y="220680"/>
            <a:ext cx="499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Регулација Глуконеогенез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-747000" y="3284640"/>
            <a:ext cx="6383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ADP инхибира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пируват карбоксилаз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Acetil-CoА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активир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пируват карбоксилаз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ADP инхибира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фосфоенол пирува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карбоксилаз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5029200" y="1219320"/>
            <a:ext cx="4114800" cy="43704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5"/>
          <p:cNvSpPr/>
          <p:nvPr/>
        </p:nvSpPr>
        <p:spPr>
          <a:xfrm>
            <a:off x="264240" y="1341360"/>
            <a:ext cx="37209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Пируват карбоксилаза 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фосфоенол пируват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карбо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ксикина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558800" y="166680"/>
            <a:ext cx="273672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Пове</a:t>
            </a:r>
            <a:r>
              <a:rPr b="1" lang="sr-CS" sz="1400" spc="-1" strike="noStrike">
                <a:solidFill>
                  <a:srgbClr val="ffff00"/>
                </a:solidFill>
                <a:latin typeface="Arial"/>
              </a:rPr>
              <a:t>ћ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ан ниво Глукозе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у крви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5365800" y="115920"/>
            <a:ext cx="270468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Смањен ниво Глукозе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у крви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2833560" y="549360"/>
            <a:ext cx="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729080" y="1123920"/>
            <a:ext cx="21801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Лу</a:t>
            </a:r>
            <a:r>
              <a:rPr b="0" lang="sr-CS" sz="1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ење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Инсулина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бета </a:t>
            </a:r>
            <a:r>
              <a:rPr b="0" lang="sr-CS" sz="14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елије панкреаса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2906640" y="1916280"/>
            <a:ext cx="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1733400" y="24908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729800" y="2563920"/>
            <a:ext cx="25506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езивање инсулина за своје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ецепторе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2906640" y="321300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1735200" y="3716280"/>
            <a:ext cx="231732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ктивација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ФОСФАТАЗ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2906640" y="414972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1731960" y="4579920"/>
            <a:ext cx="2494080" cy="733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ове</a:t>
            </a:r>
            <a:r>
              <a:rPr b="0" lang="sr-CS" sz="14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на пермеабилност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ембрана за глукозу (јетра,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CS" sz="14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CS" sz="14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,масно ткиво,мозак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Line 13"/>
          <p:cNvSpPr/>
          <p:nvPr/>
        </p:nvSpPr>
        <p:spPr>
          <a:xfrm>
            <a:off x="2906640" y="5589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1878120" y="60912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1727280" y="6019920"/>
            <a:ext cx="303372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Трансфер глукозе из крви у ткива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Синтеза гликоген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Line 16"/>
          <p:cNvSpPr/>
          <p:nvPr/>
        </p:nvSpPr>
        <p:spPr>
          <a:xfrm flipH="1">
            <a:off x="612720" y="1484280"/>
            <a:ext cx="57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Line 17"/>
          <p:cNvSpPr/>
          <p:nvPr/>
        </p:nvSpPr>
        <p:spPr>
          <a:xfrm>
            <a:off x="611280" y="1484280"/>
            <a:ext cx="0" cy="165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3960" y="3357720"/>
            <a:ext cx="1698480" cy="733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Пове</a:t>
            </a:r>
            <a:r>
              <a:rPr b="1" lang="sr-CS" sz="1400" spc="-1" strike="noStrike">
                <a:solidFill>
                  <a:srgbClr val="ffff00"/>
                </a:solidFill>
                <a:latin typeface="Arial"/>
              </a:rPr>
              <a:t>ћ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ана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активност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гликоген синтазе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Line 19"/>
          <p:cNvSpPr/>
          <p:nvPr/>
        </p:nvSpPr>
        <p:spPr>
          <a:xfrm flipH="1">
            <a:off x="1547280" y="3860640"/>
            <a:ext cx="7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539640" y="4149720"/>
            <a:ext cx="0" cy="20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39640" y="616572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22"/>
          <p:cNvSpPr/>
          <p:nvPr/>
        </p:nvSpPr>
        <p:spPr>
          <a:xfrm>
            <a:off x="5540040" y="1052640"/>
            <a:ext cx="22456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Лу</a:t>
            </a:r>
            <a:r>
              <a:rPr b="0" lang="sr-CS" sz="1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ење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глукагона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алфа </a:t>
            </a:r>
            <a:r>
              <a:rPr b="0" lang="sr-CS" sz="14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елије панкреаса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6443640" y="549360"/>
            <a:ext cx="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6443640" y="177480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5219640" y="2205000"/>
            <a:ext cx="25704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езивање глукагона за своје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ецепторе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5221080" y="3068640"/>
            <a:ext cx="284004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ктивација аденилат циклазе </a:t>
            </a:r>
            <a:r>
              <a:rPr b="0" lang="sr-CS" sz="1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станак cAMP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Line 27"/>
          <p:cNvSpPr/>
          <p:nvPr/>
        </p:nvSpPr>
        <p:spPr>
          <a:xfrm>
            <a:off x="6443640" y="2781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5226480" y="3933720"/>
            <a:ext cx="187380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ктивација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КИНАЗ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5223240" y="4581360"/>
            <a:ext cx="2251800" cy="733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Пове</a:t>
            </a:r>
            <a:r>
              <a:rPr b="1" lang="sr-CS" sz="1400" spc="-1" strike="noStrike">
                <a:solidFill>
                  <a:srgbClr val="ffff00"/>
                </a:solidFill>
                <a:latin typeface="Arial"/>
              </a:rPr>
              <a:t>ћ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ана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активност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гликоген фосфорилазе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6948360" y="407664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7312680" y="3789360"/>
            <a:ext cx="1698480" cy="733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Инхибициј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активности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гликоген синтазе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Line 32"/>
          <p:cNvSpPr/>
          <p:nvPr/>
        </p:nvSpPr>
        <p:spPr>
          <a:xfrm>
            <a:off x="6012000" y="4292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Text Box 33"/>
          <p:cNvSpPr/>
          <p:nvPr/>
        </p:nvSpPr>
        <p:spPr>
          <a:xfrm>
            <a:off x="5416560" y="5969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ext Box 34"/>
          <p:cNvSpPr/>
          <p:nvPr/>
        </p:nvSpPr>
        <p:spPr>
          <a:xfrm>
            <a:off x="5145840" y="5789520"/>
            <a:ext cx="2908800" cy="733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Разградња гликогена,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трансфер глукозе из ткива у крв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егулација гликемије (ЈЕТРА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Line 35"/>
          <p:cNvSpPr/>
          <p:nvPr/>
        </p:nvSpPr>
        <p:spPr>
          <a:xfrm>
            <a:off x="6156360" y="537372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00"/>
                </a:solidFill>
                <a:latin typeface="Arial"/>
              </a:rPr>
              <a:t>ГЛИКОГЕНЕЗ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Процес синтезе гликоген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зива се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гликогене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окализација процеса гликогенезе – цитосол (пре свега хепатоцита и ћелија скелетних мишића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Синтеза гликогена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е се одвијати у организму, у слу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ају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да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је концентрација глукозе и/или АТП пов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ан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-360" y="533160"/>
            <a:ext cx="84358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За синтезу гликогена потребан је почетни сегмент гликогена - ГЛИКОГЕНИН, који је гликопротеинске природе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Први глукозил остатак везује се за полипептидни ланац гликогенина, са чијим хидрокси аминокиселинама (серин, треонин, тирозин) успоставља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О-гликозидну везу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Наредни остатак глукозе надовезује се на претходни стварањем α-1,4-гликозидне везе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ГЛИКОГЕНИН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остаје сачуван 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условима гладовања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када преовладав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гликогенолиза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5410080" y="4038480"/>
            <a:ext cx="359280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8:08:37Z</dcterms:created>
  <dc:creator>XP</dc:creator>
  <dc:description/>
  <dc:language>en-US</dc:language>
  <cp:lastModifiedBy>Korisnik</cp:lastModifiedBy>
  <dcterms:modified xsi:type="dcterms:W3CDTF">2022-08-24T09:37:01Z</dcterms:modified>
  <cp:revision>94</cp:revision>
  <dc:subject/>
  <dc:title>Slide 1</dc:title>
</cp:coreProperties>
</file>